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B951-DE88-493A-977F-1F25FC71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5C2-7B38-4EE9-8B57-2D6E6626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22BA-5279-493E-9F36-A49A158B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8B23-B102-4971-A90E-14ADD755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34E-9F4C-43F9-8AAD-B695793A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FB5-9F80-4609-8058-F8126838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737-48AF-45D1-B261-4A786954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8A38-C946-49CB-BCCB-64EA4A58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468-B46F-45F7-8B6F-4E59CF5E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B15-43F8-4E14-B2C8-6115F8F2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A0B-E777-47E2-A2AB-9B88FB3B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74F-26A2-466B-AA27-DC448B91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02FD-89C3-484D-8BF3-DEDB0DAEA0F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nglishrussia.com/images/weird_russian_matreshkas/1.jpg&amp;imgrefurl=http://englishrussia.com/index.php/2007/09/11/weird-looking-russian-matryoshkas/&amp;usg=__skfFu8W5R2cT_CUFGKa9q4hcNM4=&amp;h=376&amp;w=500&amp;sz=34&amp;hl=en&amp;start=1&amp;zoom=1&amp;um=1&amp;itbs=1&amp;tbnid=txzzrHkzS-R3ZM:&amp;tbnh=98&amp;tbnw=130&amp;prev=/images%3Fq%3Drussian%2Bculture%26um%3D1%26hl%3Den%26sa%3DN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red-october.net/wp-content/uploads/2008/12/russian-ballet.jpg&amp;imgrefurl=http://www.red-october.net/2006/05/music-and-the-arts/&amp;usg=__PW1f6lpxsuCzFu1LvhD58omappU=&amp;h=343&amp;w=300&amp;sz=18&amp;hl=en&amp;start=1&amp;zoom=1&amp;um=1&amp;itbs=1&amp;tbnid=eYsBw0CRE2UqvM:&amp;tbnh=120&amp;tbnw=105&amp;prev=/images%3Fq%3Drussian%2Bballet%26um%3D1%26hl%3Den%26sa%3DN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waytorussia.net/userfiles/image/WhatIsRussia/RussianFood/Soups/borcsh.jpg&amp;imgrefurl=http://www.waytorussia.net/WhatIsRussia/RussianFood/Soups.html&amp;usg=__1eZRkBcoQgEBanWZV-_x5Gvgu7o=&amp;h=180&amp;w=200&amp;sz=24&amp;hl=en&amp;start=2&amp;zoom=1&amp;um=1&amp;itbs=1&amp;tbnid=ufnK1SDSZo40cM:&amp;tbnh=94&amp;tbnw=104&amp;prev=/images%3Fq%3Dtraditional%2Brussian%2Bfood%26um%3D1%26hl%3Den%26sa%3DX%26tbs%3D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ure In Rus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Julia Cassetta &amp; Clare Doher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4572000"/>
            <a:ext cx="265608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http://www.1uptravel.com/flags/images/rs-lgflag.gif"/>
          <p:cNvPicPr/>
          <p:nvPr/>
        </p:nvPicPr>
        <p:blipFill>
          <a:blip r:embed="rId1"/>
          <a:stretch/>
        </p:blipFill>
        <p:spPr>
          <a:xfrm>
            <a:off x="0" y="-13644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libri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st rulers severe limits on relig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spoken lea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daism , Islam, and Christia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st number practices Christian fai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popular religion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sic, art, and 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t place to find Russian culture is St. Petersburg’s th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 museum in St. Petersbur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ous poet Alexander Pushkin protes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o Tolstoy’s novel war and peace protes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4760" y="4876920"/>
            <a:ext cx="1533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eb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Years E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rth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ist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day of m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o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ould start with a soup called bors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t (turn over'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3733920"/>
            <a:ext cx="2743200" cy="2479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302904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Calibri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similar to 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f the same letters look the same but do not sound the s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884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6:43:35Z</dcterms:created>
  <dc:creator> </dc:creator>
  <dc:description/>
  <dc:language>en-US</dc:language>
  <cp:lastModifiedBy> </cp:lastModifiedBy>
  <dcterms:modified xsi:type="dcterms:W3CDTF">2010-12-20T17:12:21Z</dcterms:modified>
  <cp:revision>8</cp:revision>
  <dc:subject/>
  <dc:title>Culture</dc:title>
</cp:coreProperties>
</file>